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8D2-B086-49D4-AEA0-7E8EB191A7E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55B-661F-4EF5-BACD-3F71CC04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006-851C-4A0B-AEBE-CDDF545A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36A-581D-4464-AF64-C9EEE42B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CCE-4FA4-4ABA-977E-F45C03B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75E9-6004-4414-A47C-0F5D9CFD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648-65B6-4629-9880-35EAF70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5A0-482E-4341-8CAE-11ED1CA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B7F-8C7C-47BD-B988-118F4A7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FFFE-4D18-4CCA-AC1D-9F25A7E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7A6-EF8A-4403-B417-EE6171AA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1E5-E47A-48D8-B029-C714197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15C-2BFA-4CFA-B35A-D504B77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D23-CD97-4351-91C8-53183CF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554-4C2E-4056-8D0A-54BA9D1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9898-2AC3-49AE-BD0E-1F8CCC81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650-EE17-4652-83D9-5A3BF7B8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5195-B717-45CC-9087-2A5DA327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D79-BEF7-4944-9EE8-EEA53D6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641-5292-4454-91B5-03F029C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D60-E00C-4A37-931E-692496B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187-7EE5-4085-BCD4-7E3AB52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381-1AED-4039-BA4E-207DA7D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4AC-2D7E-4C36-8D6F-F4395ED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FEC-8580-4A82-ADEE-8FE0FB3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8B9-830B-48BB-A23D-B66BBFA49D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8C3-2F1D-4626-9B62-7563ED7E4E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ΟΙ ΦΥΣΙΚΟΙ ΝΟΜΟΙ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00720" y="3715920"/>
            <a:ext cx="49384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Οι κανόνες του παιχνιδιού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3024000" cy="223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73520" y="5589720"/>
            <a:ext cx="44704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Ποιο εύκολες είναι οι απαντήσεις του πως από τις απαντήσεις του γιατ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28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Μερικοί από τους κανόνε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 νόμος της παγκόσμιας έλξη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 νόμος του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omb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Τα αξιώματα της σχετικότητα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ι εξισώσεις του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ι αρχές της θερμοδυναμική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Λίγα περισσότερα για την αρχή διατήρησης της μάζα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Αν κάψετε 50 κιλά βενζίνης ( ένα ρεζερβουάρ περίπου) πόσο διοξείδιο του άνθρακα παράγετα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Μερικά γραμμάρι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0 κιλά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0 κιλά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714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Το φαινόμενο του θερμοκηπί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2362320"/>
            <a:ext cx="3311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Ένα ρεζερβουάρ την εβδομάδα επί 1εκ αυτοκίνητα του λεκανοπεδίου είναι 150.000.000 κιλα διοξειδίου ή 150.000τόνο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Με άλλα λόγια 4.000 φορτηγά την ημέρα με 6 τόνους φορτίο το καθένα μεταφέρουν διοξείδιο από λεκανοπέδιο Αττικής στην ατμόσφαιρ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831"/>
          <a:stretch/>
        </p:blipFill>
        <p:spPr>
          <a:xfrm>
            <a:off x="3924360" y="3048120"/>
            <a:ext cx="4734000" cy="3549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7748" t="0" r="35526" b="0"/>
          <a:stretch/>
        </p:blipFill>
        <p:spPr>
          <a:xfrm>
            <a:off x="4356000" y="2349360"/>
            <a:ext cx="1150920" cy="1901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50072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5928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Η μάζα είναι μορφή ενέργεια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Δεν ισχύει η αρχή διατήρησης της μάζας αλλά η αρχή διατήρησης της υλοενέργειας που για μικρές ενέργειες καταλήγει στην αρχή διατήρησης της μάζα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58920" y="4653000"/>
            <a:ext cx="7058160" cy="576360"/>
            <a:chOff x="1258920" y="4653000"/>
            <a:chExt cx="7058160" cy="576360"/>
          </a:xfrm>
        </p:grpSpPr>
        <p:sp>
          <p:nvSpPr>
            <p:cNvPr id="123" name=""/>
            <p:cNvSpPr/>
            <p:nvPr/>
          </p:nvSpPr>
          <p:spPr>
            <a:xfrm>
              <a:off x="1258920" y="4724280"/>
              <a:ext cx="504720" cy="5050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19640" y="4797360"/>
              <a:ext cx="360360" cy="36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77080" y="4653000"/>
              <a:ext cx="504720" cy="50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53440" y="4726080"/>
              <a:ext cx="360360" cy="36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47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81840" y="47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1560" y="47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4720" y="47131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932360" y="4724280"/>
            <a:ext cx="0" cy="144144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544500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5373720"/>
            <a:ext cx="122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28920" y="524844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=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8840" y="5950080"/>
            <a:ext cx="7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5969160"/>
            <a:ext cx="8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2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Η ΕΞΕΛΙΞΗ ΤΗΣ ΦΥΣΙΚΗ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79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Ενοποίηση κάποιων από αυτούς ( αρχή διατήρησης μάζας και ενέργειας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Εύρεση μερικών μικρών αποκλίσεων από τους νόμους ( παραβίαση της ενέργειας σε μικρά χρονικά διαστήματ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Αναγωγή κάποιων από αυτούς σε κάποια ποιο απλή και βαθύτερη αιτία. ( αναγωγή της παγκόσμιας έλξης στη γεωμετρία του χώρου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0520" y="150840"/>
            <a:ext cx="16826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5:51:33Z</dcterms:created>
  <dc:creator>ΜΟΥΡΟΥΖΗΣ ΠΑΝΑΓΙΩΤΗΣ</dc:creator>
  <dc:description/>
  <dc:language>en-US</dc:language>
  <cp:lastModifiedBy>user</cp:lastModifiedBy>
  <dcterms:modified xsi:type="dcterms:W3CDTF">2010-10-04T09:22:36Z</dcterms:modified>
  <cp:revision>11</cp:revision>
  <dc:subject/>
  <dc:title>ΟΙ ΦΥΣΙΚΟΙ ΝΟΜΟΙ</dc:title>
</cp:coreProperties>
</file>